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EC9-DBBB-4FB6-88D7-2EA8A392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EB6-959A-45DF-B51E-CDB9E02C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149-7C12-4DF7-8687-5D2E6188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5EB-351E-4942-A67D-AED56CCA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A83-21F0-48B8-84FA-72752505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A94-4195-4327-AB11-CC1C8F1D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ADA-05AA-4431-8EB6-28EAAE61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3B8-C722-4B12-A7D8-9C73D301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00D-E942-4541-A778-8DE17BF9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611-D84A-4502-8521-1F2BDD24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0CA-470D-4192-9D81-00B2F0AD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39C-3327-4D32-AA06-25D47F71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80C0-3A99-4947-B823-F6512C16C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1172200">
            <a:off x="2438280" y="228240"/>
            <a:ext cx="4191120" cy="632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1099200">
            <a:off x="2285640" y="762120"/>
            <a:ext cx="445608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236800">
            <a:off x="2590560" y="152280"/>
            <a:ext cx="4216320" cy="6324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y do we hav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o many rules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2:31:46Z</dcterms:created>
  <dc:creator>John Bailey</dc:creator>
  <dc:description/>
  <dc:language>en-US</dc:language>
  <cp:lastModifiedBy>Kambala</cp:lastModifiedBy>
  <dcterms:modified xsi:type="dcterms:W3CDTF">2008-06-09T09:22:30Z</dcterms:modified>
  <cp:revision>4</cp:revision>
  <dc:subject/>
  <dc:title>Signs</dc:title>
</cp:coreProperties>
</file>