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DAE-66C2-46F4-A93F-682B321D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29E-40F9-4FFF-94BF-A9A4C64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B7E-F0F5-4D60-A413-10A2016F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7FC-D7F4-4A6C-B550-0AF52988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C99-AA9B-462A-80CD-2F3B222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49B-E1FA-4F75-A97E-DB456F0D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813-9505-4178-A580-B499D87D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3B4-66B0-46D4-93C8-4BF8A2C5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EDE-39B0-4C0F-BBC6-76FDDE71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F1B-EC4F-408C-A6B8-177C99A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F62-999F-48D5-8CFA-77F78C8F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2EB-649A-4187-9B5E-E7E285A2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FFB1-2F5F-469B-8FCD-0E8F460CE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1172200">
            <a:off x="2438280" y="228240"/>
            <a:ext cx="4191120" cy="632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099200">
            <a:off x="2285640" y="762120"/>
            <a:ext cx="445608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236800">
            <a:off x="2590560" y="152280"/>
            <a:ext cx="4216320" cy="6324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y do we hav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o many rules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2:31:46Z</dcterms:created>
  <dc:creator>John Bailey</dc:creator>
  <dc:description/>
  <dc:language>en-US</dc:language>
  <cp:lastModifiedBy>Kambala</cp:lastModifiedBy>
  <dcterms:modified xsi:type="dcterms:W3CDTF">2008-06-09T09:22:30Z</dcterms:modified>
  <cp:revision>4</cp:revision>
  <dc:subject/>
  <dc:title>Signs</dc:title>
</cp:coreProperties>
</file>