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1DD-1669-4630-A1CE-2BB7B56C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7FA-D7F2-4745-940D-ED60EEF3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32F-CEEB-4C97-8BAF-0F174D8D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86B-6253-47AA-9D42-9AE9FA69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ADA-3D3C-4A63-A753-1A9F8E9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842-6C92-4D88-865E-17E01C13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596-6AEA-4937-8BD6-7156A30E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79A-E714-46B2-8084-A7453C63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965-CE18-4292-BBDE-08AB46E5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749-115B-4848-B65A-2A53546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23B-2764-40B4-9104-38428E30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078-5271-4F26-805B-F4FE3C84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AF3D-E4F4-478B-B396-343CCB07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1172200">
            <a:off x="2438280" y="228240"/>
            <a:ext cx="4191120" cy="632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1099200">
            <a:off x="2285640" y="762120"/>
            <a:ext cx="445608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236800">
            <a:off x="2590560" y="152280"/>
            <a:ext cx="4216320" cy="6324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y do we hav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o many rules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2:31:46Z</dcterms:created>
  <dc:creator>John Bailey</dc:creator>
  <dc:description/>
  <dc:language>en-US</dc:language>
  <cp:lastModifiedBy>Kambala</cp:lastModifiedBy>
  <dcterms:modified xsi:type="dcterms:W3CDTF">2008-06-09T09:22:30Z</dcterms:modified>
  <cp:revision>4</cp:revision>
  <dc:subject/>
  <dc:title>Signs</dc:title>
</cp:coreProperties>
</file>