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091-D103-4E58-93FA-8E09BE47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248-1F91-41C3-866E-7157C58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1A0-17D3-47A3-A0EB-E87102EF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72B-E5B7-47E2-AF84-17C0BB28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91D-FDDD-47AA-928F-11A6538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721-DCFD-4334-B889-1EDFA449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A74-DB4C-493F-A8D5-0820526E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A48-57C0-403B-8D26-6BFF9AF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CA3-E7A9-4CC0-A9AE-3995F80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719-3A2D-45CB-80EB-A8B965B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E99-1F4E-4118-AD36-9A6B569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97D-D0DE-4A9D-A447-7CD86F82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A6E-4148-4729-BB7D-8DF45EA7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172200">
            <a:off x="2438280" y="22824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099200">
            <a:off x="2285640" y="762120"/>
            <a:ext cx="44560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236800">
            <a:off x="2590560" y="152280"/>
            <a:ext cx="4216320" cy="632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y do we hav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 many rules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2:31:46Z</dcterms:created>
  <dc:creator>John Bailey</dc:creator>
  <dc:description/>
  <dc:language>en-US</dc:language>
  <cp:lastModifiedBy>Kambala</cp:lastModifiedBy>
  <dcterms:modified xsi:type="dcterms:W3CDTF">2008-06-09T09:22:30Z</dcterms:modified>
  <cp:revision>4</cp:revision>
  <dc:subject/>
  <dc:title>Signs</dc:title>
</cp:coreProperties>
</file>