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4.png" ContentType="image/png"/>
  <Override PartName="/ppt/media/image9.png" ContentType="image/png"/>
  <Override PartName="/ppt/media/image11.pct" ContentType="image/x-pict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1B2-335B-4D36-8478-739F9C51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4D4-2BAD-49C9-9C0D-0C584DC4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0E0-8485-452A-A26C-3513BA7D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819-B581-4099-AD44-C718E8D9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C156-9018-4151-ACE8-DAF4B98D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4521-245E-445E-8AB4-4A3B77FD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973D-6B14-4609-93ED-F9B4C0F3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4031-A001-48B8-984A-67CA3C84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719A-3809-4DF4-A2E7-4600A9C6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AA2C-C67C-4813-B706-C7A4DC96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1E83-5BCC-4191-AD10-0372BC60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B59-B706-43C9-82D0-10C302A6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E254-9592-4492-A964-7EB82CD4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4AA8-CAF0-4067-BE85-9021860C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B474-4714-4D46-BD03-D2C8F938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F317-014E-4A45-B78D-9CFCD405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232D-A2FF-49D9-8184-87AE3A65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B94-A285-48F5-AF4C-367BDC6F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4B4-99C0-4D32-B945-1F2333AE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34B-CCF4-4304-8A26-227581B3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80D-2403-4CDC-8FA7-8D7E5A14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719-0295-4D47-9A13-057DC830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83D-00FC-4E0B-8FB3-57E0D997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98E-9FFB-4F05-BC77-162E360A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B13B-B973-48A3-AF0B-D300108E7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D97D-5A50-4927-9403-1E076527E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Red Back Spider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41911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41148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80060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ack Spiders are not 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29000" y="106200"/>
            <a:ext cx="25146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Descrip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2819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a Red Back Spider look lik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65760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ey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l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ne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phalo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4267080"/>
            <a:ext cx="4724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e on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4210200"/>
            <a:ext cx="1981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str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17398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Die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Trapdoor sp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Cri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liz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3504960" cy="4444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habit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Red back Spiders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7467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 dry places lik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 sh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 s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7432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2666880"/>
            <a:ext cx="28954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live in these countries: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58672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check for Red Back Spiders in these pla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Reproduc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how the reproduction work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le delivers the sperm par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makes sacs and lays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iderlings hatch after 1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derlings leave there mothers by ballo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young females markings change as they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s reach adult size in about 14 months and are ready to 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span of a Red Back Spid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2/3 years                  Male 6/7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81680" y="4876920"/>
            <a:ext cx="20574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c44"/>
                </a:solidFill>
                <a:uFillTx/>
                <a:latin typeface="Arial"/>
              </a:rPr>
              <a:t>Special Qualities</a:t>
            </a: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some amazing and interesting facts about Red Back Spider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ack Spiders are most likely to bit in summer or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Red Back Spider eat animals bigger than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Red Back Spider can go for three months without any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male Red Back Spider is the only Red Back Spider that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erce a huma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038480" y="3809880"/>
            <a:ext cx="248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ck Spiders are very poisonous .    They shouldn’t be touched by bear  human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7280" y="3352680"/>
            <a:ext cx="2694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0:05:35Z</dcterms:created>
  <dc:creator>IT Dept</dc:creator>
  <dc:description/>
  <dc:language>en-US</dc:language>
  <cp:lastModifiedBy>Kambala</cp:lastModifiedBy>
  <dcterms:modified xsi:type="dcterms:W3CDTF">2008-05-12T10:35:15Z</dcterms:modified>
  <cp:revision>14</cp:revision>
  <dc:subject/>
  <dc:title>PowerPoint Presentation</dc:title>
</cp:coreProperties>
</file>