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4.png" ContentType="image/png"/>
  <Override PartName="/ppt/media/image9.png" ContentType="image/png"/>
  <Override PartName="/ppt/media/image11.pct" ContentType="image/x-pict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A60-2923-4F62-9926-7E6DB62C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612-86F6-4098-B362-38D74797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790-1ED0-48A0-8C83-92E96877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40A-C51E-40BD-BDC7-CC71087C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A7A5-D6D2-4D38-A4A2-357D0FC1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F623-76C5-4D33-A573-67073CB1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A76E-4B96-493E-9289-4DF75830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FABC-1153-4A22-ACB5-DE1BCB69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4BF2-44D6-4999-B145-57BFA23B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F766-AB67-45B4-A899-217D2E1E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83D4-69CF-4819-A34E-84006D3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FAF-75E0-40A6-B975-6FB0C139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DB3D-1D8E-4724-B157-89A19781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AB1C-295C-4CC1-93EF-AD8A806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ECA8-59E1-4867-9E4E-7F6C8297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5BA6-921E-46DE-9FFF-BB56A161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8060-DB03-4EB1-85E3-D93E58BD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14F-98B4-4039-B025-E40E48D8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931-971F-468B-B5A6-618ABB18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0F7-9D3A-4CC8-8BEB-EBA015E4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43E-96FD-4ED5-9264-5C4A638F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A92-97E7-473D-BE22-7DC76BB5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009-40EF-4019-8DC3-C1DCF239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135-BB9F-4A01-A156-034B4600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9519-F09E-4832-ACC0-FB0047933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3289-C947-490C-A444-C9ED53268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d Back Spider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191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41148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8006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not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06200"/>
            <a:ext cx="2514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escrip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2819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 Red Back Spider look lik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65760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ey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ne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hal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4267080"/>
            <a:ext cx="4724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e o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4210200"/>
            <a:ext cx="198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tr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17398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ie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Trapdoor sp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r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liz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3504960" cy="4444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habit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Red back Spiders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dry places lik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sh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 s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7432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666880"/>
            <a:ext cx="28954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live in these countries: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58672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check for Red Back Spiders in these pla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produc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how the reproduction work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le delivers the sperm par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makes sacs and lays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iderlings hatch after 1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derlings leave there mothers by ballo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young females markings change as they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s reach adult size in about 14 months and are ready to 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span of a Red Back Spi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2/3 years                  Male 6/7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876920"/>
            <a:ext cx="20574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Special Qualities</a:t>
            </a: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some amazing and interesting facts about Red Back Spider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most likely to bit in summer or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Red Back Spider eat animals bigger than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can go for three months without any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is the only Red Back Spider that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rce a huma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038480" y="3809880"/>
            <a:ext cx="248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ck Spiders are very poisonous .    They shouldn’t be touched by bear  human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694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0:05:35Z</dcterms:created>
  <dc:creator>IT Dept</dc:creator>
  <dc:description/>
  <dc:language>en-US</dc:language>
  <cp:lastModifiedBy>Kambala</cp:lastModifiedBy>
  <dcterms:modified xsi:type="dcterms:W3CDTF">2008-05-12T10:35:15Z</dcterms:modified>
  <cp:revision>14</cp:revision>
  <dc:subject/>
  <dc:title>PowerPoint Presentation</dc:title>
</cp:coreProperties>
</file>