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4.png" ContentType="image/png"/>
  <Override PartName="/ppt/media/image9.png" ContentType="image/png"/>
  <Override PartName="/ppt/media/image11.pct" ContentType="image/x-pict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4F9-A5B1-4CD2-A2DD-EECD7CE8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2A3-35AE-4505-9D04-9FC79B6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100-78AF-4C50-B90F-B5EC9BC2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D10-B36F-4AC7-A1B5-ECABD3C9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0990-C2B8-4AB3-8745-560CA59F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B308-CD57-4137-A94B-246B267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1CB6-202C-4506-BC71-325B9089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5F9-DFB6-4F87-B416-F235EB4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FDED-65D2-4336-86F6-AE5B1777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1672-7244-45F4-8BAF-5991C7FB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C58-FFF9-44F7-AE42-7C40ECF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3EC-3F1F-49E4-8C6E-3A1DEE98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E7F0-2AD9-4532-8EF9-EC7A052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9138-0ABC-42A9-85EA-282E050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3A1D-215A-44E9-87C3-E3DD5370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9FA5-D6D0-44CB-B92C-C033149F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D493-A4C6-45CB-8DB4-A719F24F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977-49CA-4379-9A64-63EEA769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7D6-28D9-4DEC-940D-C6B1EE25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132-DF69-49A0-B901-734B5E3A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EED-CF4C-425F-ACCA-E7D6B4F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8CB-C87D-43F3-B902-BC0A09E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BED-A84A-4590-B6AA-7A923DC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D8C-D902-4A13-B3CA-5E6A937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75D-FFB6-4336-ACFA-AC556FAB0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A8B8-7257-49CB-B9D0-9CF98660E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d Back Spider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91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1148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8006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not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062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escrip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Red Back Spider look lik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6576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y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26708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e o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210200"/>
            <a:ext cx="198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7398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ie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Trapdoor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r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iz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3504960" cy="4444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habit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Red back Spider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dry places lik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sh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743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666880"/>
            <a:ext cx="2895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 in these countries: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867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heck for Red Back Spiders in these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produc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how the reproduction work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le delivers the sperm par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makes sacs and 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lings hatch after 1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lings leave there mothers by ball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oung females markings change as they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reach adult size in about 14 months and are ready to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pan of a Red Back Sp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2/3 years                  Male 6/7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Special Qualities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some amazing and interesting facts about Red Back Spid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most likely to bit in summer or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Red Back Spider eat animals bigger tha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can go for three months without any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is the only Red Back Spider t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ce a huma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38480" y="38098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ck Spiders are very poisonous .    They shouldn’t be touched by bear  human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69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0:05:35Z</dcterms:created>
  <dc:creator>IT Dept</dc:creator>
  <dc:description/>
  <dc:language>en-US</dc:language>
  <cp:lastModifiedBy>Kambala</cp:lastModifiedBy>
  <dcterms:modified xsi:type="dcterms:W3CDTF">2008-05-12T10:35:15Z</dcterms:modified>
  <cp:revision>14</cp:revision>
  <dc:subject/>
  <dc:title>PowerPoint Presentation</dc:title>
</cp:coreProperties>
</file>