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4.png" ContentType="image/png"/>
  <Override PartName="/ppt/media/image9.png" ContentType="image/png"/>
  <Override PartName="/ppt/media/image11.pct" ContentType="image/x-pict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755-BE8B-476D-B06C-54F6C9BF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627-81F8-4A1F-AA87-66FB73D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8CD-C050-4D22-8452-26537E67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7BD-4974-467A-BA72-1D268414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D830-64D3-4843-A1A7-3E35E5B9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EDF9-0802-4428-AA98-F5F68E5A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6E67-3946-446A-82DA-393E23A9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4E8D-DD91-4E95-BE08-B95B3B68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7565-7E47-4397-A7BE-AF962A77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F5A8-5208-40A5-8A12-5544CEBA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20EB-5F4F-4743-95B2-4781D396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EBF-5E4F-4FDE-BE79-5CD40281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010C-2B48-47DE-8D52-CA0A7297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1735-ADFA-428A-ACD4-AF1F3AB6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9C15-A2C9-4362-A218-D04088E0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9CE8-51FF-4E05-858E-D96E6850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AA92-FE48-4A80-A4BC-2E4B17B1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B03-AFD6-42C0-9D25-6F22EF41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947-103C-47CA-B521-BA10D7DD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7FF-F107-406E-9168-BA7E9193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769-494E-49C0-8F83-0A741D53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685-AA25-4209-9A78-816600D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DBF-870B-4DCF-8EFC-9E6B9096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54F-C9CD-4C27-ADA8-CF98B47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8E2B-8ACD-4D1B-AC3B-CF9D1CB8F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9B3B-B0AA-4EDF-ADAF-30F22B943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d Back Spider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91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41148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8006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not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062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escrip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819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 Red Back Spider look lik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65760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ey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ne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hal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426708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e o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4210200"/>
            <a:ext cx="198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17398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ie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Trapdoor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r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liz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3504960" cy="4444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habit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Red back Spiders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dry places lik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sh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743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666880"/>
            <a:ext cx="28954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 in these countries: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8672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check for Red Back Spiders in these p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produc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how the reproduction work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le delivers the sperm par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makes sacs and 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iderlings hatch after 1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lings leave there mothers by ballo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young females markings change as they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s reach adult size in about 14 months and are ready to 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span of a Red Back Spi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2/3 years                  Male 6/7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876920"/>
            <a:ext cx="20574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Special Qualities</a:t>
            </a: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some amazing and interesting facts about Red Back Spide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most likely to bit in summer or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Red Back Spider eat animals bigger than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can go for three months without any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is the only Red Back Spider that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ce a huma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038480" y="3809880"/>
            <a:ext cx="248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ck Spiders are very poisonous .    They shouldn’t be touched by bear  human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694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0:05:35Z</dcterms:created>
  <dc:creator>IT Dept</dc:creator>
  <dc:description/>
  <dc:language>en-US</dc:language>
  <cp:lastModifiedBy>Kambala</cp:lastModifiedBy>
  <dcterms:modified xsi:type="dcterms:W3CDTF">2008-05-12T10:35:15Z</dcterms:modified>
  <cp:revision>14</cp:revision>
  <dc:subject/>
  <dc:title>PowerPoint Presentation</dc:title>
</cp:coreProperties>
</file>