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4.png" ContentType="image/png"/>
  <Override PartName="/ppt/media/image9.png" ContentType="image/png"/>
  <Override PartName="/ppt/media/image11.pct" ContentType="image/x-pict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36D-17DE-4934-ADDC-290DB21C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E46-6397-4A44-B183-00249839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D09-4864-4077-9D57-B164F8A6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5FC-61EC-421D-B03F-E48BB9FF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0988-98BD-4B62-BC51-9069C746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1C0C-3A23-4867-8EFC-89A55888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7244-47E8-4E18-B471-54CD4AD2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C558-7338-4931-8C59-0F486D33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BECD-FE6C-4C75-874D-8A67E51A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1D39-448B-448E-A10F-9041543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1B25-EA71-4F79-8855-126451B2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F73-7AF6-4C79-9394-75CC3B73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C800-EC63-4AFE-80A1-E672EE0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E5F0-A776-4CD1-9A5B-227CB83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88CA-1CB1-4F27-86DD-81447A4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8D6B-F1D3-416D-B49A-5665078E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EBAC-D2D3-4205-875E-28E6AD98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0DD-80BA-4347-A7BD-C33A6794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8B9-C354-456E-B201-69DCBB88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790-741C-4EAA-9539-D9F090FE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A7B-E639-4495-8AD2-6A401277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B75-8B84-4D35-8185-838D9DFD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BA7-D0C9-49F5-9A48-3A34168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136-FCF3-43BD-8C95-133667B7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6610-4F20-47B1-836C-0A75FC24E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1495-C57B-4F21-B9FA-F235EE334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d Back Spider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91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41148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8006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not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062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escrip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819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 Red Back Spider look lik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65760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ey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ne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hal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426708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e o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4210200"/>
            <a:ext cx="198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17398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ie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Trapdoor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r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liz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3504960" cy="4444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habit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Red back Spiders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dry places lik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sh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743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666880"/>
            <a:ext cx="28954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 in these countries: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8672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check for Red Back Spiders in these p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produc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how the reproduction work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le delivers the sperm par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makes sacs and 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iderlings hatch after 1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lings leave there mothers by ballo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young females markings change as they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s reach adult size in about 14 months and are ready to 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span of a Red Back Spi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2/3 years                  Male 6/7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876920"/>
            <a:ext cx="20574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Special Qualities</a:t>
            </a: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some amazing and interesting facts about Red Back Spide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most likely to bit in summer or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Red Back Spider eat animals bigger than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can go for three months without any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is the only Red Back Spider that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ce a huma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038480" y="3809880"/>
            <a:ext cx="248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ck Spiders are very poisonous .    They shouldn’t be touched by bear  human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694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0:05:35Z</dcterms:created>
  <dc:creator>IT Dept</dc:creator>
  <dc:description/>
  <dc:language>en-US</dc:language>
  <cp:lastModifiedBy>Kambala</cp:lastModifiedBy>
  <dcterms:modified xsi:type="dcterms:W3CDTF">2008-05-12T10:35:15Z</dcterms:modified>
  <cp:revision>14</cp:revision>
  <dc:subject/>
  <dc:title>PowerPoint Presentation</dc:title>
</cp:coreProperties>
</file>