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ct" ContentType="image/x-pict"/>
  <Override PartName="/ppt/media/image14.png" ContentType="image/png"/>
  <Override PartName="/ppt/media/image9.png" ContentType="image/png"/>
  <Override PartName="/ppt/media/image11.pct" ContentType="image/x-pict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E303-8BF0-4306-AE05-CDCF39B3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2667-34CE-47E8-90E2-AB6A6CB8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A2A4-8036-4E40-AF0F-6B957AA8A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10D1-CC4B-4276-AF4F-E3C9956D9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7482-6EF5-4563-9B8E-EAC1E5451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39F6-BF4A-4CAB-A667-7FA680EF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E6E5-E723-488A-AAF1-E044FB68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E70F-A5EB-477C-A22D-87C5C5E7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F08F-E14F-4507-B406-1BFD3904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BD16-6931-42A6-97E0-2A5580E5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7266-3F0A-4B61-AD4C-8F119472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950B-13E5-4C48-B5AA-D01F0ED0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4704-C845-4D9B-8712-CC407F85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9C55-84C3-486C-843F-6E2C3DA5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4657-3F74-4CD2-8AD7-13D97E82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5138-66A6-4F8C-A56D-C13359282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C80C-272F-4363-B800-7AD212B7E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5F3F-452A-4BBA-A92B-21452CF4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9893-3588-40F7-8E54-7865199F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DE78-26B6-4F14-9207-A35E0731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4277-7FEB-4A82-803B-60773812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5A66-D8A1-41B6-8AE9-4DB3A425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45CA-A766-4C37-83E0-10EC08CF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BF18-893F-4F46-87C4-ED4FB929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4DF8-1FA6-4C43-B165-EE24DA0296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BA7E-9ABA-4DB8-B540-000B490547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c44"/>
                </a:solidFill>
                <a:uFillTx/>
                <a:latin typeface="Arial"/>
              </a:rPr>
              <a:t>Red Back Spider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41911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4114800"/>
            <a:ext cx="579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480060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Back Spiders are not ins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29000" y="106200"/>
            <a:ext cx="251460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75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c44"/>
                </a:solidFill>
                <a:uFillTx/>
                <a:latin typeface="Arial"/>
              </a:rPr>
              <a:t>Description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1600" y="2819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a Red Back Spider look lik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365760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ey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le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ne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phalothor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4267080"/>
            <a:ext cx="4724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e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d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e on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4210200"/>
            <a:ext cx="1981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d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 str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172200" y="1523880"/>
            <a:ext cx="173988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c44"/>
                </a:solidFill>
                <a:uFillTx/>
                <a:latin typeface="Arial"/>
              </a:rPr>
              <a:t>Diet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 Trapdoor sp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 Cri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liza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5105520" y="2057400"/>
            <a:ext cx="3504960" cy="44449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c44"/>
                </a:solidFill>
                <a:uFillTx/>
                <a:latin typeface="Arial"/>
              </a:rPr>
              <a:t>habitat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 Red back Spiders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74674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k dry places lik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ilet se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k she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od st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274320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2666880"/>
            <a:ext cx="289548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live in these countries: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ed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tral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586728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check for Red Back Spiders in these plac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781680" y="0"/>
            <a:ext cx="236232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c44"/>
                </a:solidFill>
                <a:uFillTx/>
                <a:latin typeface="Arial"/>
              </a:rPr>
              <a:t>Reproduction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how the reproduction work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le delivers the sperm par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emale makes sacs and lays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piderlings hatch after 14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derlings leave there mothers by ballo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young females markings change as they g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s reach adult size in about 14 months and are ready to 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span of a Red Back Spid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 2/3 years                  Male 6/7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781680" y="4876920"/>
            <a:ext cx="20574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c44"/>
                </a:solidFill>
                <a:uFillTx/>
                <a:latin typeface="Arial"/>
              </a:rPr>
              <a:t>Special Qualities</a:t>
            </a: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 !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re some amazing and interesting facts about Red Back Spider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Back Spiders are most likely to bit in summer or sp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mes Red Back Spider eat animals bigger than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emale Red Back Spider can go for three months without any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emale Red Back Spider is the only Red Back Spider that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erce a huma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4038480" y="3809880"/>
            <a:ext cx="2487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Back Spiders are very poisonous .    They shouldn’t be touched by bear  human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867280" y="3352680"/>
            <a:ext cx="2694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0:05:35Z</dcterms:created>
  <dc:creator>IT Dept</dc:creator>
  <dc:description/>
  <dc:language>en-US</dc:language>
  <cp:lastModifiedBy>Kambala</cp:lastModifiedBy>
  <dcterms:modified xsi:type="dcterms:W3CDTF">2008-05-12T10:35:15Z</dcterms:modified>
  <cp:revision>14</cp:revision>
  <dc:subject/>
  <dc:title>PowerPoint Presentation</dc:title>
</cp:coreProperties>
</file>