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26.pct" ContentType="image/x-pict"/>
  <Override PartName="/ppt/media/image13.png" ContentType="image/png"/>
  <Override PartName="/ppt/media/image8.png" ContentType="image/png"/>
  <Override PartName="/ppt/media/image14.jpeg" ContentType="image/jpeg"/>
  <Override PartName="/ppt/media/image19.pct" ContentType="image/x-pict"/>
  <Override PartName="/ppt/media/image21.pct" ContentType="image/x-pict"/>
  <Override PartName="/ppt/media/image7.jpeg" ContentType="image/jpeg"/>
  <Override PartName="/ppt/media/image25.pct" ContentType="image/x-pict"/>
  <Override PartName="/ppt/media/image16.png" ContentType="image/png"/>
  <Override PartName="/ppt/media/image24.pct" ContentType="image/x-pict"/>
  <Override PartName="/ppt/media/image23.pct" ContentType="image/x-pict"/>
  <Override PartName="/ppt/media/image22.pct" ContentType="image/x-pict"/>
  <Override PartName="/ppt/media/image15.jpeg" ContentType="image/jpeg"/>
  <Override PartName="/ppt/media/image2.jpeg" ContentType="image/jpeg"/>
  <Override PartName="/ppt/media/image3.png" ContentType="image/png"/>
  <Override PartName="/ppt/media/image20.pct" ContentType="image/x-pict"/>
  <Override PartName="/ppt/media/image18.pct" ContentType="image/x-pict"/>
  <Override PartName="/ppt/media/image1.jpeg" ContentType="image/jpeg"/>
  <Override PartName="/ppt/media/image4.png" ContentType="image/png"/>
  <Override PartName="/ppt/media/image6.png" ContentType="image/png"/>
  <Override PartName="/ppt/media/image1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889C-B13D-4275-A152-23D1B2F4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D966-6988-4913-9788-0324A2DE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21F1-66E0-448C-860B-CA278DB3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DB3F-41CC-48DB-B024-456663EE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0EFF-903E-410F-A2CA-0DE70A43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FC09-4A50-4BCE-91EB-2604967A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2030-4366-45B6-8CB7-A26F4CC1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8B76-2DE6-4C5A-9ADC-8BFA06F7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2C8F-640D-45E4-9F81-E7623A0E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061D-393B-407A-BFFE-C8C24EFE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05F7-262F-4D8B-A467-2C2DA472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B68E-BE40-4F03-BAC4-A005F1E4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F9D8-CD13-4FD8-A773-5335ED04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D2DF-D8EC-4BB0-8399-74E1B5CB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CEBD-9BFF-44B7-B7A8-FA0610FB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3334-F326-4F7D-BC0C-B7053A20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C36C-5A2D-47B6-8DED-98361DE6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63DA-04C9-4746-A9B9-98CAFD61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1420-83B1-4FFB-8EB8-62FB92D4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3875-9DD9-4BC9-B9E4-A0289431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2EA1-523D-419B-9C23-E5A91043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5F83-4B75-4BF5-8E7D-302A029F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8B05-B6EF-4A2F-9FB4-CE637DD8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9DF6-098F-4E51-B2CE-44DE2F8A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84C2-BC47-477E-A1C8-FF72E5C71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6D31-1AC6-40B0-8F08-1855B5376C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18.pct"/><Relationship Id="rId3" Type="http://schemas.openxmlformats.org/officeDocument/2006/relationships/image" Target="../media/image19.pct"/><Relationship Id="rId4" Type="http://schemas.openxmlformats.org/officeDocument/2006/relationships/image" Target="../media/image20.pct"/><Relationship Id="rId5" Type="http://schemas.openxmlformats.org/officeDocument/2006/relationships/image" Target="../media/image21.pct"/><Relationship Id="rId6" Type="http://schemas.openxmlformats.org/officeDocument/2006/relationships/image" Target="../media/image22.pct"/><Relationship Id="rId7" Type="http://schemas.openxmlformats.org/officeDocument/2006/relationships/image" Target="../media/image23.pct"/><Relationship Id="rId8" Type="http://schemas.openxmlformats.org/officeDocument/2006/relationships/image" Target="../media/image24.pct"/><Relationship Id="rId9" Type="http://schemas.openxmlformats.org/officeDocument/2006/relationships/image" Target="../media/image25.pct"/><Relationship Id="rId10" Type="http://schemas.openxmlformats.org/officeDocument/2006/relationships/image" Target="../media/image26.pct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743200" y="1143000"/>
            <a:ext cx="3352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6787"/>
                <a:gd name="adj2" fmla="val 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Grasshopper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3962520"/>
          <a:ext cx="24480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962520"/>
                    <a:ext cx="24480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400800" y="4267080"/>
            <a:ext cx="2087640" cy="1800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85800" y="9907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324480" y="914400"/>
            <a:ext cx="2159280" cy="1684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c44"/>
                </a:solidFill>
                <a:latin typeface="Arial"/>
              </a:rPr>
              <a:t>Description:</a:t>
            </a:r>
            <a:endParaRPr b="0" lang="en-US" sz="36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72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sshoppers are ins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ve two large compound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large eye is made up of thousands of small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mall eye faces in a different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ve a head, thorax and an abd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5429160" y="2773440"/>
            <a:ext cx="3046680" cy="2301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Diet: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72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er, juicy shoots, young leaves make up a grasshoppers d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grasshopper species eat flow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s are easy to ch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s have pollen, nectar, witch provide lots of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940360" y="1197000"/>
            <a:ext cx="1955880" cy="2963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Habitat: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sy fields, wheat crops, bushes are good habitats for grasshopp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horned grasshoppers live close to the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horned grasshoppers are likely to be found climbing bus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705720" y="4724280"/>
            <a:ext cx="155088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Reproduction: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72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mating, female grasshoppers look for a place to lay their eg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gs are  laid through a tube called oviposi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273720" y="2141640"/>
            <a:ext cx="2421000" cy="2062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pecial Qualities: 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72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ng-horned grasshopper is one of more than 9000 kind of grasshopp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tect itself it dribbles a dark green liquid. Predators smell the liquid and leave it alon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067360" y="2900520"/>
            <a:ext cx="3489120" cy="2568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onclusion: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72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sshoppers are amazing insects up cl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211640" y="2206800"/>
            <a:ext cx="4681440" cy="3814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657600" y="2362320"/>
            <a:ext cx="2133720" cy="1684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657600" y="380880"/>
            <a:ext cx="2133720" cy="1606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-3809880" y="3429000"/>
            <a:ext cx="1689120" cy="1270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629400" y="2438280"/>
            <a:ext cx="1981080" cy="1582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477120" y="352440"/>
            <a:ext cx="2057400" cy="1603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914400" y="533520"/>
            <a:ext cx="2133720" cy="1433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914400" y="2514600"/>
            <a:ext cx="2209680" cy="1511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3657600" y="4495680"/>
            <a:ext cx="2133720" cy="1738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990720" y="4495680"/>
            <a:ext cx="2209680" cy="1828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6248520" y="4572000"/>
            <a:ext cx="2361960" cy="1617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3:07:28Z</dcterms:created>
  <dc:creator>IT Dept</dc:creator>
  <dc:description/>
  <dc:language>en-US</dc:language>
  <cp:lastModifiedBy>Kambala</cp:lastModifiedBy>
  <cp:lastPrinted>2008-04-07T01:41:15Z</cp:lastPrinted>
  <dcterms:modified xsi:type="dcterms:W3CDTF">2008-05-12T10:34:49Z</dcterms:modified>
  <cp:revision>18</cp:revision>
  <dc:subject/>
  <dc:title>PowerPoint Presentation</dc:title>
</cp:coreProperties>
</file>