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0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26.pct" ContentType="image/x-pict"/>
  <Override PartName="/ppt/media/image13.png" ContentType="image/png"/>
  <Override PartName="/ppt/media/image8.png" ContentType="image/png"/>
  <Override PartName="/ppt/media/image14.jpeg" ContentType="image/jpeg"/>
  <Override PartName="/ppt/media/image19.pct" ContentType="image/x-pict"/>
  <Override PartName="/ppt/media/image21.pct" ContentType="image/x-pict"/>
  <Override PartName="/ppt/media/image7.jpeg" ContentType="image/jpeg"/>
  <Override PartName="/ppt/media/image25.pct" ContentType="image/x-pict"/>
  <Override PartName="/ppt/media/image16.png" ContentType="image/png"/>
  <Override PartName="/ppt/media/image24.pct" ContentType="image/x-pict"/>
  <Override PartName="/ppt/media/image23.pct" ContentType="image/x-pict"/>
  <Override PartName="/ppt/media/image22.pct" ContentType="image/x-pict"/>
  <Override PartName="/ppt/media/image15.jpeg" ContentType="image/jpeg"/>
  <Override PartName="/ppt/media/image2.jpeg" ContentType="image/jpeg"/>
  <Override PartName="/ppt/media/image3.png" ContentType="image/png"/>
  <Override PartName="/ppt/media/image20.pct" ContentType="image/x-pict"/>
  <Override PartName="/ppt/media/image18.pct" ContentType="image/x-pict"/>
  <Override PartName="/ppt/media/image1.jpeg" ContentType="image/jpeg"/>
  <Override PartName="/ppt/media/image4.png" ContentType="image/png"/>
  <Override PartName="/ppt/media/image6.png" ContentType="image/png"/>
  <Override PartName="/ppt/media/image17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C8D92-74F7-4762-8E68-173897E4A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76960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43000" y="4020840"/>
            <a:ext cx="76960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E5FEB-2441-41EB-9855-48E535861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86800" y="175212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43000" y="402084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86800" y="402084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CB8CB-2292-4DD3-A465-11B9F9B3F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247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745080" y="1752120"/>
            <a:ext cx="247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47160" y="1752120"/>
            <a:ext cx="247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43000" y="4020840"/>
            <a:ext cx="247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745080" y="4020840"/>
            <a:ext cx="247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47160" y="4020840"/>
            <a:ext cx="247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9F5D4-9FE8-4BB8-8F4E-3C201EA3E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B8098-A751-4A81-9B27-97B3C9D27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3000" y="175212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575FD-2D52-4E16-8B4D-A34222F23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06DAE-89D2-4E11-BCA8-D960CE365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3755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86800" y="1752120"/>
            <a:ext cx="3755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B23E1-1979-4F06-A5A2-D2EEA39A1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19390-1028-449D-930C-EB96EA385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143000" y="45684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5E31D-846D-462C-A3BB-CA3AC02E1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86800" y="1752120"/>
            <a:ext cx="3755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43000" y="402084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8235A-D6D1-46B8-95D5-4BFF48583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43000" y="175212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1915B-D54E-40F9-B0A9-A85D7FFED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3755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86800" y="175212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86800" y="402084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56DC7-9264-42F0-9D0D-A49CA9950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86800" y="175212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43000" y="4020840"/>
            <a:ext cx="76960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27F67-DEA8-4608-AD3B-ABCD40B05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76960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43000" y="4020840"/>
            <a:ext cx="76960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F680D-9289-467E-A674-523346B09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86800" y="175212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43000" y="402084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86800" y="402084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CA017-53CE-4B99-9B31-AB0F09CE4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247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745080" y="1752120"/>
            <a:ext cx="247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347160" y="1752120"/>
            <a:ext cx="247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43000" y="4020840"/>
            <a:ext cx="247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745080" y="4020840"/>
            <a:ext cx="247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347160" y="4020840"/>
            <a:ext cx="247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14D10-DEFD-4FDB-B8F3-FF22C5D3E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B23A7-6E87-42D7-899F-62CDD3B96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3755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86800" y="1752120"/>
            <a:ext cx="3755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C7E23-133C-4465-B7EA-DFC6FC524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0AF92-3FB7-4273-B86B-551736870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43000" y="45684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74AC6-0DDE-4939-8790-A39114771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86800" y="1752120"/>
            <a:ext cx="3755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43000" y="402084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8534E-02F9-444E-808E-76F75A856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3755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86800" y="175212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86800" y="402084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248B4-BFE7-41EA-8279-87FD2BE1A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86800" y="175212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43000" y="4020840"/>
            <a:ext cx="76960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312DD-90AA-4B62-8751-E6982283E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c44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43000" y="175212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049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06320-E5D2-47E3-8498-392CEC747B6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c44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8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698D1-EB36-4E72-997A-126143F9143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ct"/><Relationship Id="rId2" Type="http://schemas.openxmlformats.org/officeDocument/2006/relationships/image" Target="../media/image18.pct"/><Relationship Id="rId3" Type="http://schemas.openxmlformats.org/officeDocument/2006/relationships/image" Target="../media/image19.pct"/><Relationship Id="rId4" Type="http://schemas.openxmlformats.org/officeDocument/2006/relationships/image" Target="../media/image20.pct"/><Relationship Id="rId5" Type="http://schemas.openxmlformats.org/officeDocument/2006/relationships/image" Target="../media/image21.pct"/><Relationship Id="rId6" Type="http://schemas.openxmlformats.org/officeDocument/2006/relationships/image" Target="../media/image22.pct"/><Relationship Id="rId7" Type="http://schemas.openxmlformats.org/officeDocument/2006/relationships/image" Target="../media/image23.pct"/><Relationship Id="rId8" Type="http://schemas.openxmlformats.org/officeDocument/2006/relationships/image" Target="../media/image24.pct"/><Relationship Id="rId9" Type="http://schemas.openxmlformats.org/officeDocument/2006/relationships/image" Target="../media/image25.pct"/><Relationship Id="rId10" Type="http://schemas.openxmlformats.org/officeDocument/2006/relationships/image" Target="../media/image26.pct"/><Relationship Id="rId1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2743200" y="1143000"/>
            <a:ext cx="33526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6787"/>
                <a:gd name="adj2" fmla="val 89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Times New Roman"/>
              </a:rPr>
              <a:t>Grasshoppers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685800" y="3962520"/>
          <a:ext cx="2448000" cy="2057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3962520"/>
                    <a:ext cx="2448000" cy="20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6400800" y="4267080"/>
            <a:ext cx="2087640" cy="18003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685800" y="990720"/>
            <a:ext cx="1905120" cy="14284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6324480" y="914400"/>
            <a:ext cx="2159280" cy="168444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c44"/>
                </a:solidFill>
                <a:latin typeface="Arial"/>
              </a:rPr>
              <a:t>Description:</a:t>
            </a:r>
            <a:endParaRPr b="0" lang="en-US" sz="36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3772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sshoppers are ins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have two large compound ey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large eye is made up of thousands of small ey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small eye faces in a different dire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have a head, thorax and an abdom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6"/>
          <a:stretch/>
        </p:blipFill>
        <p:spPr>
          <a:xfrm>
            <a:off x="5429160" y="2773440"/>
            <a:ext cx="3046680" cy="230184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c44"/>
                </a:solidFill>
                <a:latin typeface="Arial"/>
              </a:rPr>
              <a:t>Diet:</a:t>
            </a: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3772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nder, juicy shoots, young leaves make up a grasshoppers di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grasshopper species eat flow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owers are easy to che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owers have pollen, nectar, witch provide lots of energ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5"/>
          <a:stretch/>
        </p:blipFill>
        <p:spPr>
          <a:xfrm>
            <a:off x="5940360" y="1197000"/>
            <a:ext cx="1955880" cy="296388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c44"/>
                </a:solidFill>
                <a:latin typeface="Arial"/>
              </a:rPr>
              <a:t>Habitat:</a:t>
            </a: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ssy fields, wheat crops, bushes are good habitats for grasshopp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rt-horned grasshoppers live close to the grou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ng-horned grasshoppers are likely to be found climbing bush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>
            <a:off x="6705720" y="4724280"/>
            <a:ext cx="1550880" cy="180036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c44"/>
                </a:solidFill>
                <a:latin typeface="Arial"/>
              </a:rPr>
              <a:t>Reproduction:</a:t>
            </a: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3772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mating, female grasshoppers look for a place to lay their egg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ggs are  laid through a tube called oviposit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6273720" y="2141640"/>
            <a:ext cx="2421000" cy="206208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c44"/>
                </a:solidFill>
                <a:latin typeface="Arial"/>
              </a:rPr>
              <a:t>Special Qualities: </a:t>
            </a: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3772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long-horned grasshopper is one of more than 9000 kind of grasshopp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protect itself it dribbles a dark green liquid. Predators smell the liquid and leave it alon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5067360" y="2900520"/>
            <a:ext cx="3489120" cy="256824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c44"/>
                </a:solidFill>
                <a:latin typeface="Arial"/>
              </a:rPr>
              <a:t>Conclusion:</a:t>
            </a: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3772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sshoppers are amazing insects up clo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4211640" y="2206800"/>
            <a:ext cx="4681440" cy="381456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657600" y="2362320"/>
            <a:ext cx="2133720" cy="168408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3657600" y="380880"/>
            <a:ext cx="2133720" cy="16066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-3809880" y="3429000"/>
            <a:ext cx="1689120" cy="12700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4"/>
          <a:stretch/>
        </p:blipFill>
        <p:spPr>
          <a:xfrm>
            <a:off x="6629400" y="2438280"/>
            <a:ext cx="1981080" cy="15829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5"/>
          <a:stretch/>
        </p:blipFill>
        <p:spPr>
          <a:xfrm>
            <a:off x="6477120" y="352440"/>
            <a:ext cx="2057400" cy="160344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6"/>
          <a:stretch/>
        </p:blipFill>
        <p:spPr>
          <a:xfrm>
            <a:off x="914400" y="533520"/>
            <a:ext cx="2133720" cy="14335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7"/>
          <a:stretch/>
        </p:blipFill>
        <p:spPr>
          <a:xfrm>
            <a:off x="914400" y="2514600"/>
            <a:ext cx="2209680" cy="15112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8"/>
          <a:stretch/>
        </p:blipFill>
        <p:spPr>
          <a:xfrm>
            <a:off x="3657600" y="4495680"/>
            <a:ext cx="2133720" cy="17384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9"/>
          <a:stretch/>
        </p:blipFill>
        <p:spPr>
          <a:xfrm>
            <a:off x="990720" y="4495680"/>
            <a:ext cx="2209680" cy="18288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10"/>
          <a:stretch/>
        </p:blipFill>
        <p:spPr>
          <a:xfrm>
            <a:off x="6248520" y="4572000"/>
            <a:ext cx="2361960" cy="161784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8T03:07:28Z</dcterms:created>
  <dc:creator>IT Dept</dc:creator>
  <dc:description/>
  <dc:language>en-US</dc:language>
  <cp:lastModifiedBy>Kambala</cp:lastModifiedBy>
  <cp:lastPrinted>2008-04-07T01:41:15Z</cp:lastPrinted>
  <dcterms:modified xsi:type="dcterms:W3CDTF">2008-05-12T10:34:49Z</dcterms:modified>
  <cp:revision>18</cp:revision>
  <dc:subject/>
  <dc:title>PowerPoint Presentation</dc:title>
</cp:coreProperties>
</file>