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6.pct" ContentType="image/x-pict"/>
  <Override PartName="/ppt/media/image13.png" ContentType="image/png"/>
  <Override PartName="/ppt/media/image8.png" ContentType="image/png"/>
  <Override PartName="/ppt/media/image14.jpeg" ContentType="image/jpeg"/>
  <Override PartName="/ppt/media/image19.pct" ContentType="image/x-pict"/>
  <Override PartName="/ppt/media/image21.pct" ContentType="image/x-pict"/>
  <Override PartName="/ppt/media/image7.jpeg" ContentType="image/jpeg"/>
  <Override PartName="/ppt/media/image25.pct" ContentType="image/x-pict"/>
  <Override PartName="/ppt/media/image16.png" ContentType="image/png"/>
  <Override PartName="/ppt/media/image24.pct" ContentType="image/x-pict"/>
  <Override PartName="/ppt/media/image23.pct" ContentType="image/x-pict"/>
  <Override PartName="/ppt/media/image22.pct" ContentType="image/x-pict"/>
  <Override PartName="/ppt/media/image15.jpeg" ContentType="image/jpeg"/>
  <Override PartName="/ppt/media/image2.jpeg" ContentType="image/jpeg"/>
  <Override PartName="/ppt/media/image3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4.png" ContentType="image/png"/>
  <Override PartName="/ppt/media/image6.png" ContentType="image/png"/>
  <Override PartName="/ppt/media/image1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86A-61A5-4926-9F1D-95A2BEE4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432-440C-44FA-B1C2-C2EF7379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BE4-3361-4A8A-A737-63FC927E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8DE-EDEB-4ED5-BC93-595B31BE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E244-89FF-4BED-BFB8-297263E2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0C97-F34C-4959-B62E-D1291808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5120-A5FF-423C-B0AB-C0A750B2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4592-6860-4176-844D-B9466197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F8DD-8363-4408-A9ED-9D4589E4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4FC7-B86C-4992-8198-6C38AECF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A5BC-CE5D-4577-B287-E34E17C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9CA-CEE6-4A1F-B995-53DD2934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8CFB-9883-4AF4-9359-1CB931A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6210-E8F4-4C98-A537-9DEFC470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FFFA-70EB-47D8-9EFC-047BB675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623A-F4E1-4A66-A5B1-F5D39B91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B5E1-79C0-4C1E-BCF0-6DA2E729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117-6627-4F1C-B1C8-6A1963F1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EC9-BDFD-450F-9A6C-CE05DCEB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1C8-EBFD-4E79-AB8F-605C7598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1D7-272C-4B7C-8670-62AEB16B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F3F-8129-49AF-89AE-3488C31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157-5706-40CD-88C3-8C1C6551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BB4-EFBA-4B46-B747-9E945EE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44C8-0C36-4FDB-A7EB-7C6F173ED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3E5F-931C-4483-A6D8-324485486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image" Target="../media/image21.pct"/><Relationship Id="rId6" Type="http://schemas.openxmlformats.org/officeDocument/2006/relationships/image" Target="../media/image22.pct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image" Target="../media/image25.pct"/><Relationship Id="rId10" Type="http://schemas.openxmlformats.org/officeDocument/2006/relationships/image" Target="../media/image26.pct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743200" y="114300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787"/>
                <a:gd name="adj2" fmla="val 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sshoppe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962520"/>
          <a:ext cx="2448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2520"/>
                    <a:ext cx="2448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400800" y="42670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85800" y="99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324480" y="914400"/>
            <a:ext cx="215928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c44"/>
                </a:solidFill>
                <a:latin typeface="Arial"/>
              </a:rPr>
              <a:t>Description:</a:t>
            </a:r>
            <a:endParaRPr b="0" lang="en-US" sz="36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hoppers are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two large compound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arge eye is made up of thousands of small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mall eye faces in a different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a head, thorax and an abd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429160" y="2773440"/>
            <a:ext cx="304668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e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r, juicy shoots, young leaves make up a grasshoppers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rasshopper species eat fl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are easy to ch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have pollen, nectar, witch provide lots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940360" y="1197000"/>
            <a:ext cx="1955880" cy="2963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abita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y fields, wheat crops, bushes are good habitats for grasshop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horned grasshoppers live close to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horned grasshoppers are likely to be found climbing bu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705720" y="4724280"/>
            <a:ext cx="15508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ting, female grasshoppers look for a place to lay their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s are  laid through a tube called ovipos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273720" y="2141640"/>
            <a:ext cx="2421000" cy="2062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al Qualities: 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ng-horned grasshopper is one of more than 9000 kind of grasshop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tect itself it dribbles a dark green liquid. Predators smell the liquid and leave it al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67360" y="2900520"/>
            <a:ext cx="3489120" cy="256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clus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s are amazing insects up c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11640" y="2206800"/>
            <a:ext cx="468144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8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809880" y="342900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629400" y="2438280"/>
            <a:ext cx="1981080" cy="158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477120" y="352440"/>
            <a:ext cx="2057400" cy="160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914400" y="533520"/>
            <a:ext cx="2133720" cy="14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914400" y="251460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657600" y="4495680"/>
            <a:ext cx="2133720" cy="1738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990720" y="449568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6248520" y="4572000"/>
            <a:ext cx="2361960" cy="161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3:07:28Z</dcterms:created>
  <dc:creator>IT Dept</dc:creator>
  <dc:description/>
  <dc:language>en-US</dc:language>
  <cp:lastModifiedBy>Kambala</cp:lastModifiedBy>
  <cp:lastPrinted>2008-04-07T01:41:15Z</cp:lastPrinted>
  <dcterms:modified xsi:type="dcterms:W3CDTF">2008-05-12T10:34:49Z</dcterms:modified>
  <cp:revision>18</cp:revision>
  <dc:subject/>
  <dc:title>PowerPoint Presentation</dc:title>
</cp:coreProperties>
</file>