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332-B08B-4F0C-93D1-1A1DB8D0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A33-D6EE-4D07-9068-8D933A94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28F-AA2B-4F46-8884-156AE478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D6E-FFFB-4C98-B172-2898627B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B51-AB36-4111-B511-6E8F5237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2928-1508-4C36-8658-B710EAE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029B-B3FD-40C2-9908-21A975F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420-8F2C-4DE1-B8EF-4A561A08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13D9-FF73-4B46-8A42-0F04EF1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42C5-D3D2-4E27-AC55-431E6007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66C-5099-43CA-BA74-91E0A46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BF6-B338-4979-AEDA-3532ADE0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73C-4448-4853-AD38-414C28E4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1A4-3576-46C5-9DA5-DDB1E58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47E8-BFCF-4874-9AA7-7F193FE5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4C17-3206-4D0A-B248-0E3E6650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609E-1662-4BDB-8497-34091338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100-182E-40DB-9A37-B748CF7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F63-453D-4D9A-8399-84C82F26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3B7-B4E9-40E8-AB8E-405B30F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3BB-072A-43BB-B6E0-C9E42D12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8CF-B3D1-4F5B-9FDD-05564957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F78-B11B-4FE0-BF80-2BC2A47C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806-E585-4ECC-96A9-9FA3C92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F5B1-ADE9-4404-BA3B-6B7C17A864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7DE-6689-4C5B-B3DA-82AD2655587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ntip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100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ntenn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body has many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stink gl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a external Skelton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me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found in tropical climate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3205080"/>
            <a:ext cx="35816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verage female centipede lays 60 sticky eg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31050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al 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called centipedes because in Greek centipede means 100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claws which contain poison to kill their prey the poison can cause pain and swel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133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a very interesting mini-b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67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46:49Z</dcterms:created>
  <dc:creator>IT Dept</dc:creator>
  <dc:description/>
  <dc:language>en-US</dc:language>
  <cp:lastModifiedBy>Kambala</cp:lastModifiedBy>
  <dcterms:modified xsi:type="dcterms:W3CDTF">2008-05-12T10:34:14Z</dcterms:modified>
  <cp:revision>8</cp:revision>
  <dc:subject/>
  <dc:title>Centipedes</dc:title>
</cp:coreProperties>
</file>