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E6E-ED8A-4693-9E70-3200808A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664-7B32-4736-BECD-37BB660E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0EB-DA87-40EC-9913-39F7A66D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C60-B8BE-4E03-B603-EF2C59AA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2F36-41DC-4D92-B773-ABEBEA74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959E-B474-4441-AD95-541C63E5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122A-0196-4899-A15B-8A6D0304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17D2-85F3-4D73-9763-E8AB5EAB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F54E-21DE-462F-A5B1-E9B61E30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59AB-CD93-4822-B987-62529465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4D9D-C3AF-41B8-8B02-CBD65011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546-7C60-43AF-ADAC-532A3E26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CF9E-70BE-4CB0-8B94-E5D621B1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090C-DB9C-40B8-8922-514D0DB0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4C04-59C0-4DA0-A41C-5167DB3D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FD0F-9C1B-4FE3-9A55-8A43210E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F9C0-40A8-4BD3-A47C-544FFA11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D90-D379-4C73-9F5A-47EEC285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0EA-5E9D-43DC-8F04-4FAFD7EF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61C-D81D-46CA-A686-6F1EE8E8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B4EE-A557-448E-B654-2F2A3ED8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2DE5-7DDC-403D-9CF4-4F3B570D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38D-83EF-45AA-8712-2CD7D82D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AA4-3FBF-462C-B5DB-54263DC2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C709-08FA-4750-AABC-08DE06E9CED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BBA8-A8C1-4BE0-965A-4327A066551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ntiped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14600" y="3886200"/>
            <a:ext cx="37339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crip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ipedes have 100 fe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antenna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r body has many seg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stink gla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ipedes have a external Skelton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centipedes eat pl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centipedes eat mea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abit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ipedes are found in tropical climates all over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666880" y="3205080"/>
            <a:ext cx="358164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verage female centipede lays 60 sticky eg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62320" y="3105000"/>
            <a:ext cx="4800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ecial Quali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ipedes are called centipedes because in Greek centipede means 100 fe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ve claws which contain poison to kill their prey the poison can cause pain and swell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553080" y="4648320"/>
            <a:ext cx="21337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ipedes are a very interesting mini-be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38280" y="2666880"/>
            <a:ext cx="42674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2:46:49Z</dcterms:created>
  <dc:creator>IT Dept</dc:creator>
  <dc:description/>
  <dc:language>en-US</dc:language>
  <cp:lastModifiedBy>Kambala</cp:lastModifiedBy>
  <dcterms:modified xsi:type="dcterms:W3CDTF">2008-05-12T10:34:14Z</dcterms:modified>
  <cp:revision>8</cp:revision>
  <dc:subject/>
  <dc:title>Centipedes</dc:title>
</cp:coreProperties>
</file>