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E595-B326-447C-A453-A304DBD6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7506-7B4E-4E46-A3B7-C6BA1EF9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E357-922C-4084-A9BD-9B5E68BD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5BD7-84D4-42B0-81FB-8BFE5847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36C8-DBE3-468F-9440-654F7A65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9AFF-EEE5-45F7-815E-4E56E1A6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0655-2106-42FC-A97E-9833020B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3345-4653-44D6-97CD-453B1C8E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8F75-D94E-415A-93B6-48B33BCB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8E45-164C-4FE0-8B53-B9C29136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5989-630A-4420-8F75-A3317DB9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DB83-B676-43CE-A7EA-1C4B4F1A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645B-707B-4160-86EA-935AAD29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9F6D-DE82-4266-B2B7-65894D0D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A777-F39C-4C25-96E8-00703C84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DF05-B441-4962-9C0C-A5A9C10A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7115-D4E3-40F9-9A32-B8572B07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C36A-699B-489B-B4AD-87A655A0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6E53-8F54-49EE-B8BC-7B6DF7EC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B0BB-E716-4518-8374-B7B7B96F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BDCC-22CC-45CC-A074-8D0DEB1D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020-5AE1-4EDC-9C99-A857AF5F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DCED-6007-4B01-BB6D-0EF146E8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EE6A-2573-4C9B-9CCC-4BBEC189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B9A2-43BE-4585-BE04-230C19F8B94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A71B-A28A-4817-BFAE-A4F2D98DBC2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entiped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14600" y="3886200"/>
            <a:ext cx="373392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crip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ipedes have 100 fe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have antenna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ir body has many segm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have stink gla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ipedes have a external Skelton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centipedes eat pl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centipedes eat mea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abit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ipedes are found in tropical climates all over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666880" y="3205080"/>
            <a:ext cx="358164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pro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verage female centipede lays 60 sticky eg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62320" y="3105000"/>
            <a:ext cx="48006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ecial Quali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ipedes are called centipedes because in Greek centipede means 100 fe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ave claws which contain poison to kill their prey the poison can cause pain and swell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553080" y="4648320"/>
            <a:ext cx="21337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ipedes are a very interesting mini-bea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38280" y="2666880"/>
            <a:ext cx="426744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2:46:49Z</dcterms:created>
  <dc:creator>IT Dept</dc:creator>
  <dc:description/>
  <dc:language>en-US</dc:language>
  <cp:lastModifiedBy>Kambala</cp:lastModifiedBy>
  <dcterms:modified xsi:type="dcterms:W3CDTF">2008-05-12T10:34:14Z</dcterms:modified>
  <cp:revision>8</cp:revision>
  <dc:subject/>
  <dc:title>Centipedes</dc:title>
</cp:coreProperties>
</file>