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BCD-405C-4434-9E1D-FC7E4E60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FFE-24A1-4F0B-8CC2-46E1FB80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D50-D1C4-46CD-8380-761738C8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CDB-F195-4869-8D96-C7CBC4E8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4C4D-5BAA-47A9-B0A6-57BCEBDC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5C8F-9B87-48FE-8DB1-991F2292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6AB8-EED7-459B-B610-AFF3CB1E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7D80-EC01-49BA-950F-BCD49199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CDC8-F9A8-49AC-914D-D7BA735F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65D4-C578-4EA5-B0D8-4730D40E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92FA-78BF-4E57-B521-3ABC3DAE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414-0416-4D09-A5E1-05C01C16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95B0-A19E-4C54-9702-C0581E9F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CFF9-EDEF-4859-8CE0-324B913D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7DFA-1640-47DD-8A7F-6B8824EE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36E9-2FE7-46C3-877C-89C2954A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A26D-A9D0-4DFE-A9BE-5038B07C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1F2-744E-418F-A213-90DD4F8E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451-F7E6-420D-B0CA-02657636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41D-641C-4F65-9C6D-8F6E217B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755-37A0-4985-9B9B-9D8B4B5D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791-C685-4697-8FF4-24ADE929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56B-CD9E-4B77-A6F0-B61E3500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5D8-FC75-4D89-9662-3BD690E0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139F-283D-4F2B-90FF-033550860AE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9875-EE87-43F3-A345-44FF85F2FD9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ntipe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14600" y="3886200"/>
            <a:ext cx="37339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rip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ipedes have 100 fe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antenna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r body has many seg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stink gla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ipedes have a external Skelton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centipedes eat pl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centipedes eat mea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abit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found in tropical climates all over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666880" y="3205080"/>
            <a:ext cx="358164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verage female centipede lays 60 sticky eg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62320" y="3105000"/>
            <a:ext cx="4800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ecial Qual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called centipedes because in Greek centipede means 100 f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claws which contain poison to kill their prey the poison can cause pain and swell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553080" y="4648320"/>
            <a:ext cx="2133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a very interesting mini-be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38280" y="2666880"/>
            <a:ext cx="42674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2:46:49Z</dcterms:created>
  <dc:creator>IT Dept</dc:creator>
  <dc:description/>
  <dc:language>en-US</dc:language>
  <cp:lastModifiedBy>Kambala</cp:lastModifiedBy>
  <dcterms:modified xsi:type="dcterms:W3CDTF">2008-05-12T10:34:14Z</dcterms:modified>
  <cp:revision>8</cp:revision>
  <dc:subject/>
  <dc:title>Centipedes</dc:title>
</cp:coreProperties>
</file>