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74AC-8A9A-45B3-8808-B53C27A9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845-BF5F-4086-B83F-42415F58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E18-8D29-4FAF-98B6-8DC30171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B5C7-33BF-467F-9D68-33C82D29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3542-1BEA-4027-BFED-F336C5BD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54BE-464A-4F9C-A3D4-97F242FB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0924-520C-487A-B434-E22A5A73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9F37-44CE-4C5B-ADEA-987F25DE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CB90-9000-497F-B79B-CAB2D91E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A821-39BC-4424-9A5A-460EB4DE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E812-93E9-4E6D-9D85-727D6B5C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529A-797E-4F86-B3A5-10EACB1A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BF68-77C7-4529-9391-C3DD2C8E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9628-4077-4C05-AED6-E9FEF52E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2665-17A7-4152-9DFA-C64E4A6C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F372-46B7-4F63-854E-80BAE105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4F36-2F0B-46DA-A228-C7B2572B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43B2-9B17-4E26-AEBF-C70C5A09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EAB-0231-457C-B3E0-747DFCE8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1BA9-E4BC-4724-9A36-B356653B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781C-97D9-49A8-9D1A-F65690A0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972F-466D-4861-9BAF-20720256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EBF7-4C67-464D-99DC-2D9F09AF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B81-3C86-4C38-9F7B-A58673CC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D92E-DE47-4089-A6B8-BCC8E3DC7BF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F803-FAF8-46C7-BFE8-91EBA0B8295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entiped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14600" y="3886200"/>
            <a:ext cx="373392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crip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ipedes have 100 fe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have antenna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ir body has many segm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have stink gla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ipedes have a external Skelton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centipedes eat pl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centipedes eat mea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abit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ipedes are found in tropical climates all over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666880" y="3205080"/>
            <a:ext cx="358164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pro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verage female centipede lays 60 sticky eg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62320" y="3105000"/>
            <a:ext cx="48006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ecial Quali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ipedes are called centipedes because in Greek centipede means 100 fe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ave claws which contain poison to kill their prey the poison can cause pain and swell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553080" y="4648320"/>
            <a:ext cx="21337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ipedes are a very interesting mini-bea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38280" y="2666880"/>
            <a:ext cx="42674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2:46:49Z</dcterms:created>
  <dc:creator>IT Dept</dc:creator>
  <dc:description/>
  <dc:language>en-US</dc:language>
  <cp:lastModifiedBy>Kambala</cp:lastModifiedBy>
  <dcterms:modified xsi:type="dcterms:W3CDTF">2008-05-12T10:34:14Z</dcterms:modified>
  <cp:revision>8</cp:revision>
  <dc:subject/>
  <dc:title>Centipedes</dc:title>
</cp:coreProperties>
</file>