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97E-2FE7-4849-ADD3-20F283B8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22F-4F24-41A7-BE72-DDDA77C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32E-B42F-44A5-8D8F-50691E06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734-7526-485E-9CDD-C4874C6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96C2-72B0-4ABE-BCCB-9E90BBCB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BA1C-B428-4D05-AF15-DCFC1E5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B45D-26FF-4AF3-8C94-BD0F855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BCB1-5D0F-4AC2-8152-322DBE0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D067-BFD9-4445-BCCE-39747D40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9510-5D41-46BD-8167-F6A7EF5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DD12-1623-490F-8366-4AC2C3E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EA8-6AFB-4563-9B32-705A6FEA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637-7598-4FC0-9CDA-DBD10C4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7F63-D5B1-499C-9555-B4CEB3F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CD6-38D0-490D-8559-1D0B424D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42BD-EBFE-4A85-94F0-D3994C9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88DB-A522-4F60-A14B-961C2ECF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91C-310E-4E4E-9F6A-573F0D0C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A59-E4E5-4224-AF1F-FC73BFD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C8F-2FB1-46AF-8A3A-5B88350F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F55-26EF-4B51-B3CA-D40166D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661-5891-4251-81AA-3714376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61E-7FA4-47C2-9CA1-0345C29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EB0-1E03-4AE4-BF1F-ADA0C70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F5C8-9C87-43C2-B2F4-F2E32E79914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0DC7-0B8B-4A15-AE16-2C67BF70F82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ntip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100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ntenn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body has many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stink gl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a external Skelton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me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found in tropical climate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3205080"/>
            <a:ext cx="35816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verage female centipede lays 60 sticky eg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31050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al 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called centipedes because in Greek centipede means 100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claws which contain poison to kill their prey the poison can cause pain and swel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133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a very interesting mini-b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67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46:49Z</dcterms:created>
  <dc:creator>IT Dept</dc:creator>
  <dc:description/>
  <dc:language>en-US</dc:language>
  <cp:lastModifiedBy>Kambala</cp:lastModifiedBy>
  <dcterms:modified xsi:type="dcterms:W3CDTF">2008-05-12T10:34:14Z</dcterms:modified>
  <cp:revision>8</cp:revision>
  <dc:subject/>
  <dc:title>Centipedes</dc:title>
</cp:coreProperties>
</file>